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347-8CF1-45A2-902C-6C483E37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86E-88B4-433D-AC8F-B82C2FB7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A5BF6-7C97-4445-89D6-358B911C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7A845-ED71-4B8A-8958-F30A8176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AAFDE-C788-4C4D-B28E-4E6B1A61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25337-BC2E-43D5-B005-4ACD8E40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8F440-DFEB-442A-B352-7EC9CA13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87F37-1FCD-4838-AE0D-C88A9C6D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D5DF1-0054-4D15-9B9D-CC3CB637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66F67-5F21-492B-B624-EB5A7685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6D59C-8B9E-44B4-BF4D-46EEEF5F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90FAA-57BC-41BE-B8E2-6CB9EA92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531-69B9-41C0-9547-F4C1AB07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1B996-5ADF-466B-AE97-7C784F8B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FE9DD-AA32-4995-9937-D5B1F99B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ECE12-F699-4484-97FE-A32AB4D4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6B566-49C1-4CE4-AEBC-6A7A54E8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3B2EC-CAF4-4B36-B251-A2E2B714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804CC-3A7F-4024-8B58-EE882497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01EEA-2767-4A76-9242-1E0070B5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774F1-83A3-42B2-97FC-3A85F4DB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9A231-30B7-4A9D-B17C-714B5371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2966D-E0A5-4425-BDFD-CA836348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CF6-E66F-448F-A3A9-8ED54ED0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CE274-7C20-4F83-A7FA-6D01BE8C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558F-2398-440A-8D4D-CFD1144A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D53D-4D93-44D2-8026-CAEC6A5D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E501-BF4C-4B58-A79D-A24E8DB1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FBE7-5070-4894-B36B-5D73CFCE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C85F-315C-4361-A136-837F6E2D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89FF-93E5-4E92-BDCE-7D92F041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EE38-90DE-4BFB-9C46-7945AA0D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6B4-E959-43B5-B159-A3CC44F5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CEF0-55D3-4392-86DA-21F11DF7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181F-7349-48EA-AF44-5DBC5E18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9B88-F25D-40EF-A5C8-014516F3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1712-0CDA-42F5-A0EF-937FA79C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FE9C-4DED-4BF1-AD1D-CD519E1C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F2B2-6F56-42C0-90D5-8A5F8D3D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C1F9D-DA34-424C-9453-DD2CAE47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B0BCA-5C19-4D55-BAA0-23A680C9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D9F35-2CC4-4200-B0C5-D1DA782B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9A04-B7A9-4CBE-871E-1CCDA7A0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3FF-202C-4996-B3B6-40A4C2D9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58EB0-123D-46DC-8757-7D8832C1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29A43-A30F-485C-B6B9-7314312A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07122-1215-4244-8CA1-FB623E5C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87BDC-B0FC-433C-9AFB-ABAC764D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A0C9B-7B4C-4CFE-AFD0-0AB8D2FF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7F989-D20A-42A5-8E63-8BF52275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2CCE-BC05-4927-A379-AC4D7BFF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3884D-AD7B-4C1B-8F79-F35CC355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30F5E-69A9-4B67-8509-DDC5C385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9D650-D18B-4B10-9EF2-D1FD5B7B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70B-BB48-4CCC-9FDE-B288A186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1A377-D435-4B15-BBA4-54A5C5AF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8D6CF9-8504-454B-8599-688BB734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3D9699-630F-4560-ACF1-A23332FA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02F019-37B9-4708-983F-A215FB2D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F9540-3F8F-4256-A677-A6D4F086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08AA73-1899-4B1E-81A0-19DB8341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3DAD6-CA1A-4971-9196-3D64F55F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AF5888-704F-4188-9FFC-CC67A116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90AB9-F037-4EA8-8133-C897DB85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45DCB-0768-4A28-8654-43C999C3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8D9-A6EB-4B35-95CE-62252C7F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40B12-4204-46AF-8921-F41A1A92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9F981-EED7-4341-864A-520AC97F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30ED0-B9F3-4D60-A212-35978A7E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7EC13-4E0C-4F5A-B94E-50961007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55860-0A18-4DEA-9F98-5F12BC97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45FCB-7A27-4ABD-988D-D47557F7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0A8C5-EE73-4505-9623-DD8509C6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AAE1E-116A-4384-8794-A0664AD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28EA7-5107-4FAA-A880-94760F1D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5E45D-BE41-4E29-B507-9CA03CDD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066-8E6F-47B8-9282-6D22C2C9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56EFD-DE24-419C-B07E-7367CB97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BE173-0FAD-4D1D-B4A9-E3340AA4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35742-C9A2-4762-B76B-10173091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F4AB2-8E27-49F3-9B91-A7CF7C65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74811-550F-43E0-9643-D00E5520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A70B5-5865-4334-9709-03691F38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A0C0B-66C0-4D9C-8E1F-DF982276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736EE-5512-4EF8-B116-A8075659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68623-E86B-40AA-A79F-E0819099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CECC0-2293-41F5-B6F8-D12026A0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199-2EC2-414D-AA29-4C41E143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78851-F8C7-4954-AFD1-C185C4EF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62935-5047-4155-9292-6EF9CACC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DE628-509E-443D-8674-9DDE9297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E0180-58A7-40C2-8E2E-A88598E0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D29DF-7D7A-4BDA-9FB7-C868F21A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13DB7-0825-44BC-A3B2-207FD4CB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8E81D-CF64-40EC-8B4A-0D9E60FD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DF3CE-6FED-4A84-884A-55D33477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C666C-C16F-40F4-88C2-1BCEA8C1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CB09B-5C54-4F71-BF6C-604B49B2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747C-F945-465D-8003-39C6D581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5DE50-A459-41B2-9090-FB2F75EA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FFB43-2F66-4747-94CB-A226D025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E0807-6D1F-4B72-9BC9-BC462E74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71BF2-2F89-4C71-A379-7A590D34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96ADB-2529-44F9-A4B8-94E007AB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17880-93A6-4447-AC53-48EEE5AC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F0FDB-5043-4C80-83C7-F1F4AB5A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D204B-B657-4ED6-8EE0-74D5CA4C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96F80-B14F-48A2-8600-F2E99CDE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8CDF3-34D6-49CD-A512-0B186FB6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1C9-B371-4D54-B45D-286A98EF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6D323-BB55-4826-90EB-2E085FA6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48C96-50DA-4629-9110-A080ACC8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694DB-382E-4F98-ACD8-90ECF0C7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051A3-CBAD-46F7-9188-D41B796C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6F8F7-3590-48FA-8F88-6AF93C82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1AF82-8AE6-4E72-92DF-550766DD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B5922-7E9A-4264-A7DF-8D41839E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E40E2-EBE1-4C87-B635-3864B65B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E25B4-21CF-4C2D-B22E-B3166C00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307A5-0F37-45E6-BBB3-0A6B0AAE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308C-F192-46BF-910D-904F4493F21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4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4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4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AC1B-97A6-4372-9D3D-BC191C8086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AA1D-2899-43B7-9236-9099BADD4A5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5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5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6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FEA0-DDA0-45B7-A9E7-4E9DDB2D69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1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1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7ABB-3B26-4904-AD64-441ACC5951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7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7190-F1E7-48D4-9993-5DF1C250C4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3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4843-2739-466F-A256-AA1A501DFD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8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8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0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2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3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5A00-D365-42E8-9BF3-74B683DB0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9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9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0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2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4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EF11-5730-4932-94E1-F821D3184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E595-04DD-4B50-9A18-0AE71681B5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6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Arial"/>
              </a:rPr>
              <a:t>Тема урока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Горы суш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Различие гор по высот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9640" y="17935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ff99"/>
                </a:solidFill>
                <a:uFillTx/>
                <a:latin typeface="Verdana"/>
              </a:rPr>
              <a:t>Низкие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Высота до 1000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ff99"/>
                </a:solidFill>
                <a:uFillTx/>
                <a:latin typeface="Verdana"/>
              </a:rPr>
              <a:t>Средние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Высота от 1000м до 2000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ff99"/>
                </a:solidFill>
                <a:uFillTx/>
                <a:latin typeface="Verdana"/>
              </a:rPr>
              <a:t>Высокие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Высота более 2000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5867280" y="6021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изкие г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5688000" y="5877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редние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-1116000" y="-892080"/>
            <a:ext cx="11593440" cy="822960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5508720" y="5805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Высокие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504360" y="1655640"/>
            <a:ext cx="403236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9" name=""/>
          <p:cNvSpPr/>
          <p:nvPr/>
        </p:nvSpPr>
        <p:spPr>
          <a:xfrm>
            <a:off x="4643280" y="1557360"/>
            <a:ext cx="4038840" cy="19810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006666"/>
              </a:gs>
              <a:gs pos="100000">
                <a:srgbClr val="99ff33"/>
              </a:gs>
            </a:gsLst>
            <a:lin ang="13500000"/>
          </a:gradFill>
          <a:ln w="38160">
            <a:solidFill>
              <a:srgbClr val="eaeaea"/>
            </a:solidFill>
            <a:miter/>
          </a:ln>
          <a:effectLst>
            <a:outerShdw dist="153753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Внутрен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643280" y="4437000"/>
            <a:ext cx="4038840" cy="167652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6666"/>
              </a:gs>
            </a:gsLst>
            <a:lin ang="13500000"/>
          </a:gradFill>
          <a:ln w="38160">
            <a:solidFill>
              <a:srgbClr val="eaeaea"/>
            </a:solidFill>
            <a:miter/>
          </a:ln>
          <a:effectLst>
            <a:outerShdw dist="153753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Внеш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987640" y="2349360"/>
            <a:ext cx="1443240" cy="9352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987640" y="4005360"/>
            <a:ext cx="1451160" cy="9014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79280" y="2852640"/>
            <a:ext cx="287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Comic Sans MS"/>
              </a:rPr>
              <a:t>Прич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Comic Sans MS"/>
              </a:rPr>
              <a:t>Измен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Comic Sans MS"/>
              </a:rPr>
              <a:t>г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1042920" y="549360"/>
            <a:ext cx="67690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Внутренние си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39640" y="1484280"/>
            <a:ext cx="784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Под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Вулк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Землетряс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71640" y="2970360"/>
            <a:ext cx="6264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Внешние си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 rot="10800000">
            <a:off x="468000" y="3860280"/>
            <a:ext cx="706428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Ве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Ле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Текучие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Расти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Значение г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Горные луга – прекрасные пастбища для скот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Горы- кладовая запасов различных полезных ископаемых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Горнолыжные курорт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рактическая работа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писание ГП гор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л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звание, высот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Географическое положение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) на материке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б) направление и протяженность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) относительно других объект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457520" y="1628640"/>
            <a:ext cx="468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2560" y="259920"/>
            <a:ext cx="8080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Практическая работа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Описание ГП Уральских гор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380988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на материк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Направление и протяженнос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Относительно других объект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284720" y="1197000"/>
            <a:ext cx="48592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Уральские горы – низкие гор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Евраз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С севера на юг на 2000к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Граничат с Русской равниной, Западно – Сибирской низменностью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omic Sans MS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Познакомиться с процессами формирования рельеф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Сформировать понятие «горы», определить причины их разнообразия и изменения во време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Научиться определять географическое положение гор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99"/>
                </a:solidFill>
                <a:latin typeface="Comic Sans MS"/>
              </a:rPr>
              <a:t>Рельеф -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545840" y="4066920"/>
            <a:ext cx="60404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это совокупность неровностей земной поверхно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Формы рельефа Земл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456840" y="1599840"/>
            <a:ext cx="4033800" cy="45306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248000" cy="396072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1116000" y="2133720"/>
            <a:ext cx="2592360" cy="5745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99cc"/>
              </a:gs>
            </a:gsLst>
            <a:lin ang="8100000"/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Мате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219640" y="2205000"/>
            <a:ext cx="252108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66"/>
              </a:gs>
            </a:gsLst>
            <a:lin ang="8100000"/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Оке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3573360"/>
            <a:ext cx="14396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99cc"/>
              </a:gs>
            </a:gsLst>
            <a:lin ang="81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916360" y="3573360"/>
            <a:ext cx="122400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99cc"/>
              </a:gs>
            </a:gsLst>
            <a:lin ang="81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Равн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32360" y="3860640"/>
            <a:ext cx="3816360" cy="36036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Срединные океанические хреб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932360" y="3141720"/>
            <a:ext cx="1800360" cy="35856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Котлов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932360" y="4508640"/>
            <a:ext cx="1871640" cy="36036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Жел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03640" y="5229360"/>
            <a:ext cx="1800360" cy="36036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Островные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д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1547640" y="2708280"/>
            <a:ext cx="432000" cy="86508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987640" y="2708280"/>
            <a:ext cx="647640" cy="86508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4642920" y="2421000"/>
            <a:ext cx="576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2421000"/>
            <a:ext cx="0" cy="309564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3280" y="3357720"/>
            <a:ext cx="289080" cy="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643280" y="4076640"/>
            <a:ext cx="289080" cy="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643280" y="4724280"/>
            <a:ext cx="289080" cy="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643280" y="5516640"/>
            <a:ext cx="360360" cy="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6477120" y="36576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РЫ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684360" y="1816200"/>
            <a:ext cx="777240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3300"/>
                </a:solidFill>
                <a:uFillTx/>
                <a:latin typeface="Times New Roman"/>
              </a:rPr>
              <a:t>Горы</a:t>
            </a: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 -</a:t>
            </a: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обширные участки земной поверхности, приподнятые над равнинами и имеющие большие перепады высот                      (более 200м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763640" y="333360"/>
            <a:ext cx="5256360" cy="358920"/>
          </a:xfrm>
          <a:prstGeom prst="bevel">
            <a:avLst>
              <a:gd name="adj" fmla="val 12500"/>
            </a:avLst>
          </a:prstGeom>
          <a:solidFill>
            <a:srgbClr val="aa8456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Найдите на рису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3"/>
          <a:stretch/>
        </p:blipFill>
        <p:spPr>
          <a:xfrm>
            <a:off x="1308240" y="499428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4"/>
          <a:stretch/>
        </p:blipFill>
        <p:spPr>
          <a:xfrm>
            <a:off x="6227640" y="36590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5"/>
          <a:stretch/>
        </p:blipFill>
        <p:spPr>
          <a:xfrm>
            <a:off x="1332000" y="3213000"/>
            <a:ext cx="5854680" cy="288000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 flipH="1">
            <a:off x="1692360" y="1700280"/>
            <a:ext cx="792000" cy="2162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940360" y="1413000"/>
            <a:ext cx="647640" cy="3095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779640" y="1557360"/>
            <a:ext cx="214200" cy="2087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148360" y="2276640"/>
            <a:ext cx="288720" cy="2230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176560" y="107784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п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589560" y="1052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вер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716360" y="1916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84720" y="191628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ущел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435640" y="98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435640" y="105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Склон 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1476360" y="404640"/>
            <a:ext cx="5759640" cy="720720"/>
          </a:xfrm>
          <a:prstGeom prst="bevel">
            <a:avLst>
              <a:gd name="adj" fmla="val 12500"/>
            </a:avLst>
          </a:prstGeom>
          <a:solidFill>
            <a:srgbClr val="aa8456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cc"/>
                </a:solidFill>
                <a:latin typeface="Arial"/>
              </a:rPr>
              <a:t>Горы по возрас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1" name=""/>
          <p:cNvCxnSpPr/>
          <p:nvPr/>
        </p:nvCxnSpPr>
        <p:spPr>
          <a:xfrm flipH="1">
            <a:off x="1402920" y="1413000"/>
            <a:ext cx="1656720" cy="15120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 flipH="1">
            <a:off x="4211280" y="1628640"/>
            <a:ext cx="144360" cy="27370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580000" y="1341360"/>
            <a:ext cx="1800360" cy="1727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nt"/>
          <p:cNvSpPr/>
          <p:nvPr/>
        </p:nvSpPr>
        <p:spPr>
          <a:xfrm>
            <a:off x="7873920" y="5516640"/>
            <a:ext cx="1270080" cy="1106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7896240" y="581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2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3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4"/>
          <a:stretch/>
        </p:blipFill>
        <p:spPr>
          <a:xfrm>
            <a:off x="1204920" y="39204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5"/>
          <a:stretch/>
        </p:blipFill>
        <p:spPr>
          <a:xfrm>
            <a:off x="6357960" y="29908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6"/>
          <a:stretch/>
        </p:blipFill>
        <p:spPr>
          <a:xfrm>
            <a:off x="1308240" y="499428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7"/>
          <a:stretch/>
        </p:blipFill>
        <p:spPr>
          <a:xfrm>
            <a:off x="8172360" y="481968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8"/>
          <a:stretch/>
        </p:blipFill>
        <p:spPr>
          <a:xfrm>
            <a:off x="6227640" y="36590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9"/>
          <a:stretch/>
        </p:blipFill>
        <p:spPr>
          <a:xfrm>
            <a:off x="566640" y="6227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10"/>
          <a:stretch/>
        </p:blipFill>
        <p:spPr>
          <a:xfrm>
            <a:off x="3309840" y="2265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11"/>
          <a:stretch/>
        </p:blipFill>
        <p:spPr>
          <a:xfrm>
            <a:off x="7562880" y="580716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12"/>
          <a:stretch/>
        </p:blipFill>
        <p:spPr>
          <a:xfrm>
            <a:off x="8462880" y="458784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13"/>
          <a:stretch/>
        </p:blipFill>
        <p:spPr>
          <a:xfrm>
            <a:off x="407880" y="4311720"/>
            <a:ext cx="114480" cy="11412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324000" y="3068640"/>
            <a:ext cx="2340000" cy="1079640"/>
          </a:xfrm>
          <a:prstGeom prst="bevel">
            <a:avLst>
              <a:gd name="adj" fmla="val 12500"/>
            </a:avLst>
          </a:prstGeom>
          <a:solidFill>
            <a:srgbClr val="339966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Ста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132000" y="4653000"/>
            <a:ext cx="2340000" cy="1079640"/>
          </a:xfrm>
          <a:prstGeom prst="bevel">
            <a:avLst>
              <a:gd name="adj" fmla="val 12500"/>
            </a:avLst>
          </a:prstGeom>
          <a:solidFill>
            <a:srgbClr val="339966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Сред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443640" y="3141720"/>
            <a:ext cx="2340000" cy="1079280"/>
          </a:xfrm>
          <a:prstGeom prst="bevel">
            <a:avLst>
              <a:gd name="adj" fmla="val 12500"/>
            </a:avLst>
          </a:prstGeom>
          <a:solidFill>
            <a:srgbClr val="339966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Моло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324000" y="-171360"/>
            <a:ext cx="3887640" cy="25351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3"/>
          <a:stretch/>
        </p:blipFill>
        <p:spPr>
          <a:xfrm>
            <a:off x="1476360" y="3213000"/>
            <a:ext cx="3959280" cy="187164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4"/>
          <a:stretch/>
        </p:blipFill>
        <p:spPr>
          <a:xfrm>
            <a:off x="4932360" y="5559480"/>
            <a:ext cx="3959280" cy="1298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18:20Z</dcterms:created>
  <dc:creator>555</dc:creator>
  <dc:description/>
  <dc:language>en-US</dc:language>
  <cp:lastModifiedBy>555</cp:lastModifiedBy>
  <dcterms:modified xsi:type="dcterms:W3CDTF">2007-12-16T11:22:45Z</dcterms:modified>
  <cp:revision>30</cp:revision>
  <dc:subject/>
  <dc:title>Рельеф - </dc:title>
</cp:coreProperties>
</file>